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175-D71A-4D29-B63D-2DD6337C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470-167C-4149-B3D4-E9961A51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1CB-D83E-4ACF-A8E7-458CBEC7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8A7-5072-47C4-B19A-3B02EC81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75B-B73E-4FD6-AB0B-D0A8379D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286-BBFF-48DE-BCAC-8BD2335A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C1C-910F-4D20-AA46-6D6CF715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6D8-BCB7-4AB5-9D05-4B62D74D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17A-5B76-4982-9634-7A625981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298-F2C4-453E-8283-69CB64B4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776-B014-4CEF-8FC1-7A2A2CDD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D53-C966-49A1-9CE1-1BC7ED6D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BFC4-D43D-40DB-BA73-A059D4DA8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africa.about.com/od/moroccotopattractions/tp/topplacesmoroc.htm" TargetMode="External"/><Relationship Id="rId2" Type="http://schemas.openxmlformats.org/officeDocument/2006/relationships/hyperlink" Target="http://en.wikipedia.org/wiki/Morocco" TargetMode="External"/><Relationship Id="rId3" Type="http://schemas.openxmlformats.org/officeDocument/2006/relationships/hyperlink" Target="http://www.lonelyplanet.com/morocco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o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 Ba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han Die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0585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oafrica.about.com/od/moroccotopattractions/tp/topplacesmoroc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Moro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nelyplanet.com/moro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0303"/>
                </a:solidFill>
                <a:latin typeface="Arial"/>
              </a:rPr>
              <a:t>Morocco is around Africa, Europe and the Middle East. To the north of Western Sahara and to the West of Alg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7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030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70303"/>
                </a:solidFill>
                <a:latin typeface="Arial"/>
              </a:rPr>
              <a:t>Morocco has such features as the Dades Gorges, Erg Chebbi, and the Straight of Gibral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7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0303"/>
                </a:solidFill>
                <a:latin typeface="Arial"/>
              </a:rPr>
              <a:t>It is hard for the small villages of Morocco to get water because of where they live and the cleaning process that takes for the water to be drinkable is too exp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ural resources that Morocco offers are phosphates, iron ore, manganese, lead, zinc, fish, and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0303"/>
                </a:solidFill>
                <a:latin typeface="Arial"/>
              </a:rPr>
              <a:t>Climate and veg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0303"/>
                </a:solidFill>
                <a:latin typeface="Arial"/>
              </a:rPr>
              <a:t>Vegetation includes cork oaks, oaks, juniper trees, cedars, fir trees, pine, olive, thorn bushes and dwarf pal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703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0303"/>
                </a:solidFill>
                <a:latin typeface="Arial"/>
              </a:rPr>
              <a:t>Wild life includes camels, gazelles, panthers, wild goats, many reptiles, elephants, primates, rodents, hedgehogs, moles and wh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eople with political power include: Mohammed VI ibn al-Hasan who is the head of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me Minister is Abbas El Fas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nister of Foreign Affairs is Taieb Fassi Fih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nisters of the Interior is Chakib Benmous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 of UNFP/USFP is Mohammed El Yazg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14fc"/>
            </a:gs>
            <a:gs pos="100000">
              <a:srgbClr val="18097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&amp; Curren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edieval times Morocco was influenced my Musli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ltan Mohammad was the king of Morocco during 1912-1956 and that also marked the end of Morocco as a French protect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r. El Fassi, leader of the Conservation Istiqlal Party, took office in September 2007, after his party emerged as the largest in parliamentary el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9900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ome major exports that morocco has is clothing and textiles, electric components, inorganic materials, transistors, crude minerals, fertilizers, petroleum products, citrus fruits, vegetables, and some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literacy rate is: women 31% and men 57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One US dollar is worth 7.89 Dirhams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nguages spoken are classical Arabic, French, and Spani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religion is Isl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occo takes a lot of values to the table with guests. There are specific things that you must do or you could end up offe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51320" y="310788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$1=7.89 Dirham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51320" y="310788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$1=7.89 Dirham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s to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mber 1 place to visit in the country of morocco is the city of Marrakech. This city has a lot of historical background to Morocco. They have things worth seeing like the central square or the Saadian tomb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ther place to visit is Essaouira. It’s a great beach that doesn’t have a lot of travelers. Some famous people that went here were Jimi Hendrix and bob Marl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35:46Z</dcterms:created>
  <dc:creator>nathanjdiehl</dc:creator>
  <dc:description/>
  <dc:language>en-US</dc:language>
  <cp:lastModifiedBy>nathanjdiehl</cp:lastModifiedBy>
  <dcterms:modified xsi:type="dcterms:W3CDTF">2009-02-20T14:45:32Z</dcterms:modified>
  <cp:revision>5</cp:revision>
  <dc:subject/>
  <dc:title>Morocco</dc:title>
</cp:coreProperties>
</file>